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C177-6D96-47BF-8CCB-128109318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C177-AD42-4D27-9868-832D5B9E5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2BD8-9070-479B-A895-B25A63477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DD58-D531-4CC6-87A2-2F86D7A3D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B4DD-4566-46AC-9416-E5398C456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2A19-5008-439A-9CAA-EC1B54EB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C05B-BA36-4D50-B76A-8A7BA8620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EF78-84BE-47C5-8715-111DB9FC3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4ADD-AEA4-4880-BEF9-7C42B7721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C297-04AA-4F52-B725-DC8A4E779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5D24-665A-4474-9E0E-96BB75DAE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2F0D-06DB-4EB6-9071-2711DBABE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E01D8CA2-2330-4011-9A99-E99DA898E4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B4FA7B07-32A9-4BF7-88BF-FED9159FF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0" y="41911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st peu probabl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Vanessa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er avec Sam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1031760" y="2209680"/>
            <a:ext cx="35402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7288C1C4-4F73-4D53-911A-51613F6CB6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23960" y="1571760"/>
          <a:ext cx="7696080" cy="37623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3372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xpression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moins que, de peur que, de crainte que, sans que,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often accompanied by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explétif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he wor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placed before the subjunctive form of the verb; it is not a negation and adds no meaning to the statem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élèves arrivent avant que le professeur ne commence son cou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tudents arrive before the teacher starts his clas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4BA398EC-2247-400F-A81C-F836C6164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é compos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-que-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ast subjunctive is formed by combining a helping verb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a past participle. In the past subjunctive, the helping verb is in the presen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3581280"/>
          <a:ext cx="822960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se peut qu’il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ent oublié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réunion de neuf heur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possible that they forgot the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o’clock meet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ne sommes pas certains qu’ell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it arrivé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t no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are not certain that she arrived before 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1F4CF71D-2FF9-47DE-8DD6-FF5F1A0FC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verb takes the helping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é compos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-que-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also tak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1" descr="p101"/>
          <p:cNvPicPr/>
          <p:nvPr/>
        </p:nvPicPr>
        <p:blipFill>
          <a:blip r:embed="rId1"/>
          <a:stretch/>
        </p:blipFill>
        <p:spPr>
          <a:xfrm>
            <a:off x="3505320" y="3606840"/>
            <a:ext cx="6094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3520" y="3149640"/>
          <a:ext cx="7696080" cy="25653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256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von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vez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ont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j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u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/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yon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yez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s/elle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57D92F6B-A6CF-440D-A722-0BC42A285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verb takes the helping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é compos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-que-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also tak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1" descr="p101"/>
          <p:cNvPicPr/>
          <p:nvPr/>
        </p:nvPicPr>
        <p:blipFill>
          <a:blip r:embed="rId1"/>
          <a:stretch/>
        </p:blipFill>
        <p:spPr>
          <a:xfrm>
            <a:off x="3962520" y="3592440"/>
            <a:ext cx="6094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33520" y="3073320"/>
          <a:ext cx="8381880" cy="256536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256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ui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t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e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 s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est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mmes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êtes adapté(e)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 s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nt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je m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u t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/elle s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t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nous 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yons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vous 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yez adapté(e)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s/elles s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ent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C16362A0-C5B9-4425-B710-F8FB27603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The subjunctive with expressions of doubt and con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ubjunctive in subordinate clauses after expressions of doubt or uncertai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3581280"/>
          <a:ext cx="822960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peu probable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onau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unlikely that he’s an astrona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possible qu’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erriss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avanc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possible that we’re landing ear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4F6AC1F9-841A-4440-802D-4E98049DDD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2"/>
          <p:cNvSpPr/>
          <p:nvPr/>
        </p:nvSpPr>
        <p:spPr>
          <a:xfrm>
            <a:off x="457200" y="2590920"/>
            <a:ext cx="8153280" cy="3200400"/>
          </a:xfrm>
          <a:prstGeom prst="roundRect">
            <a:avLst>
              <a:gd name="adj" fmla="val 15722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ressions of doubt or uncertainty are typically followed by the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2590920"/>
          <a:ext cx="8001000" cy="31748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3174840">
                <a:tc>
                  <a:txBody>
                    <a:bodyPr lIns="90000" rIns="90000" tIns="228600" bIns="46800" anchor="t">
                      <a:noAutofit/>
                    </a:bodyPr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ter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douteux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impossi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peu proba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possi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oubt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doubtful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2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impossibl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unlikely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possibl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’est pas évident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’est pas sûr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’est pas vrai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em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e peut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not obvious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not sur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2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not tru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2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seems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possibl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EBC787CF-607D-4E3D-BB42-46ABB2343E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pressions call for the subjunctive in the negative, but take the indicative in the affirmative. This is because only the negative statements express uncertainty or dou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2120" y="3276720"/>
          <a:ext cx="7772400" cy="1920600"/>
        </p:xfrm>
        <a:graphic>
          <a:graphicData uri="http://schemas.openxmlformats.org/drawingml/2006/table">
            <a:tbl>
              <a:tblPr/>
              <a:tblGrid>
                <a:gridCol w="3622680"/>
                <a:gridCol w="301680"/>
                <a:gridCol w="3848040"/>
              </a:tblGrid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suis sûr qu’elle </a:t>
                      </a:r>
                      <a:r>
                        <a:rPr b="1" lang="en-US" sz="21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vient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jourd’hu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sure she’s coming toda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ne suis pas sûr qu’elle </a:t>
                      </a:r>
                      <a:r>
                        <a:rPr b="1" lang="en-US" sz="21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vienne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a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not sure she’s coming tomorrow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9DABADB3-6F55-4816-8A2E-4C9B63BB36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roire, espérer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nser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negative statements or in questions also require the subjunctive in the subordinate clause. In affirmative statements, the verb in the subordinate clause is in the indicati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3098880"/>
          <a:ext cx="8661240" cy="1701720"/>
        </p:xfrm>
        <a:graphic>
          <a:graphicData uri="http://schemas.openxmlformats.org/drawingml/2006/table">
            <a:tbl>
              <a:tblPr/>
              <a:tblGrid>
                <a:gridCol w="2585880"/>
                <a:gridCol w="216000"/>
                <a:gridCol w="2831400"/>
                <a:gridCol w="216000"/>
                <a:gridCol w="281196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crois qu’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p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believe she’s leav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ne crois pas qu’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par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believe she’s leav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yez-vous qu’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par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believe she’s leav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9" descr="DAC3_p244b"/>
          <p:cNvPicPr/>
          <p:nvPr/>
        </p:nvPicPr>
        <p:blipFill>
          <a:blip r:embed="rId1"/>
          <a:stretch/>
        </p:blipFill>
        <p:spPr>
          <a:xfrm>
            <a:off x="3105000" y="4524480"/>
            <a:ext cx="29322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46917D78-7BC5-4AFC-AF1D-6F2F5BFCC4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00200"/>
          <a:ext cx="7696080" cy="243828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01276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negative question containing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e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r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ére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he subordinate clause takes the indic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penses-tu pas que c’est une découverte capitale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you think it’s a breakthrough discovery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A20D4BD9-80E9-44F7-A9BF-9365AAFD69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unctive is also required after these conj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09480" y="2209680"/>
            <a:ext cx="7925040" cy="22860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2209680"/>
          <a:ext cx="8153280" cy="22860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00160"/>
                <a:gridCol w="2038320"/>
              </a:tblGrid>
              <a:tr h="2286000"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condition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moins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in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eur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ndition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h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fear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ttendant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qu’à ce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vu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s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d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h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4710240"/>
          <a:ext cx="8610480" cy="1311120"/>
        </p:xfrm>
        <a:graphic>
          <a:graphicData uri="http://schemas.openxmlformats.org/drawingml/2006/table">
            <a:tbl>
              <a:tblPr/>
              <a:tblGrid>
                <a:gridCol w="4190760"/>
                <a:gridCol w="4419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que ses intention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i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onnes, elle se trompe souv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hough her intentions are goo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is often mistak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s expliquent leur recherche pour que nous en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aissions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s conséqu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explain their research so that we know the consequ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20EFDBB0-C27A-4D08-A0E9-293AC915E4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600200"/>
          <a:ext cx="7696080" cy="4071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968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66228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the subject of the main clause is the same as the subject of the subordinate clause, these conjunctions are followed by the infinitive instead of the subjunctive: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condition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moins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in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eur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ttendant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entré sans parler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came in without speak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arrivera en retard à moins de prendre le tra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arrive late unless we take the tra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9D34557A-BBDA-4D3F-AD60-AAE142B5DD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The pas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erb in a subordinate clause following a subjunctive trigger took place in the past, use the pas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2-26T14:32:34Z</dcterms:modified>
  <cp:revision>204</cp:revision>
  <dc:subject>D'accord! 3 • Leçon 7: Les sciences et la technologie</dc:subject>
  <dc:title>7.3 The subjunctive with expressions of doubt and conjunctions; the past subjunctive</dc:title>
</cp:coreProperties>
</file>